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AB1-907F-458F-9987-27776200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666-3B0A-45F9-BF48-FA1E3110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BCD-43A4-4948-9CB0-058AD6B7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C66-10DE-410E-A8E2-7AAA9E8C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4491-68EB-4898-A546-B4E89B44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2DC7-2603-4655-8C9A-ABC9FD39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A713-3F7B-42D3-948C-68640B80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0605-AEAB-4B8B-BCAF-AF870B2D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0968-3621-4375-8839-B4F1ADE6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8483-30BF-4F01-BF6C-9DCA1FB9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8428-51DB-4ADC-AA90-8A7C2212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5A0-DE06-4C2E-A72B-38C5BE16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B727-19D3-4D2B-9C5E-38BD490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D9E5-93BC-482C-BEC0-E24B1D0B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9F06-B4DA-420E-9468-A3B82AC8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C098-BC70-4439-8F02-41A7F3B6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E44A-1D50-40F3-9933-A2AAA42A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3852-8FEC-4D21-96CE-BFC70A3A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685A-11A3-4D07-81F6-19BAC2EF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AF4B-7ECC-491B-9F36-2BAEFD9C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AAFEA-1A0F-4D20-BCF9-00AEF5F5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192A-ADE9-4043-91C6-F5D4170B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61A-3768-4736-937C-533E8249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547C-8DFA-42D4-BB9A-718ECC2B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08E5-2E5B-4787-9236-3C826734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A3C7-B82A-4AE0-B0FD-D75A2110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BC013-513E-447E-B952-8EFBB8CB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35476-67CA-4502-A3C9-8B523488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3E042-CAE3-48E6-A705-EEC677AD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156C-54E2-4DD5-97BB-A5471BFA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C0322-734E-405B-9D95-7BFBA845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1E7FA-A243-49A6-9316-3E1B9B23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7FCF5-F3D7-4B6B-97A6-85DF5995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150-296F-4647-92C6-8FE4650F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4B9E9-4373-4953-9290-E12F8289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5923-E44A-4404-9301-5864485F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41637-4F86-4DDF-A76F-C794ECE3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072D-7C4F-49D5-9868-1AA6B34A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3817-CCDE-42D6-AC2B-FE57788E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5D9B6-B4EF-40E6-B073-218D713D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F396F-BD14-466B-95B8-FFB5584D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1CA2-4C32-4EFC-BEF1-0056F6AC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A1745-C716-4875-AD60-A8697319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A4E-1BD4-44E5-B86A-7EBDB44D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9F4-629F-4B15-90AB-FDCF950B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35E-65C5-49A9-89DB-17BFD5F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08F-700C-4CCC-A86B-B36C070E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580-7FE5-4D0A-9696-111BC7E7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C068-3D1F-4FC8-9CA3-9EEE5EC1C6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7F8-8B40-46FE-87C1-3251F7899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1BB4-75A5-4A1B-9895-920B0CA59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6401-468C-4FC4-90A4-D593DAEB0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1714680"/>
            <a:ext cx="89298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ДЕНТОГЕНЕ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ИНФЕКЦИЈЕ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КОШТАНИХ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ТКИВА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ЛИЦА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ВИЛ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sr-CS" sz="1400" spc="-1" strike="noStrike">
                <a:solidFill>
                  <a:srgbClr val="ffffff"/>
                </a:solidFill>
                <a:latin typeface="Cambria"/>
              </a:rPr>
              <a:t>3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ЕЛ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ел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ној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ној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узроковач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пециф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цифич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ед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аз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дакти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ч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шт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куд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лаз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овлад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л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рвени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сту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ИМАР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ич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ољ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гзацерб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аришт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zoom_Capitolo__6"/>
          <p:cNvPicPr/>
          <p:nvPr/>
        </p:nvPicPr>
        <p:blipFill>
          <a:blip r:embed="rId2"/>
          <a:stretch/>
        </p:blipFill>
        <p:spPr>
          <a:xfrm>
            <a:off x="1138320" y="3643200"/>
            <a:ext cx="2971800" cy="2557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500178-fx9"/>
          <p:cNvPicPr/>
          <p:nvPr/>
        </p:nvPicPr>
        <p:blipFill>
          <a:blip r:embed="rId3"/>
          <a:stretch/>
        </p:blipFill>
        <p:spPr>
          <a:xfrm>
            <a:off x="4643280" y="3643200"/>
            <a:ext cx="3124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НОЈ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ној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зо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тра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орпциј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овлад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орп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лит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ктур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знат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ара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град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ел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ЦИРКУМСКРИП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ркумскрипт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цидиви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л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ис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ене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еолиз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ло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л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енерац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иг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терациј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ig%201"/>
          <p:cNvPicPr/>
          <p:nvPr/>
        </p:nvPicPr>
        <p:blipFill>
          <a:blip r:embed="rId2"/>
          <a:stretch/>
        </p:blipFill>
        <p:spPr>
          <a:xfrm>
            <a:off x="5435640" y="4441680"/>
            <a:ext cx="30607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49952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матог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узе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лаз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ди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напредовал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л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ариш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ћ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узрокова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ек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0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Subperiosteal%2Babscess%2Bwith%2Blingual%2Blocalization%2Bclinical%2Bphotograph"/>
          <p:cNvPicPr/>
          <p:nvPr/>
        </p:nvPicPr>
        <p:blipFill>
          <a:blip r:embed="rId2"/>
          <a:srcRect l="0" t="0" r="0" b="7142"/>
          <a:stretch/>
        </p:blipFill>
        <p:spPr>
          <a:xfrm>
            <a:off x="5357880" y="4786200"/>
            <a:ext cx="2708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ериапик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6760" y="164304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апик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бдев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ган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шт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т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ст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ариш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Tooth_abscess_clip_image"/>
          <p:cNvPicPr/>
          <p:nvPr/>
        </p:nvPicPr>
        <p:blipFill>
          <a:blip r:embed="rId2"/>
          <a:stretch/>
        </p:blipFill>
        <p:spPr>
          <a:xfrm>
            <a:off x="5364000" y="3573360"/>
            <a:ext cx="3240360" cy="2889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Abces_parulique"/>
          <p:cNvPicPr/>
          <p:nvPr/>
        </p:nvPicPr>
        <p:blipFill>
          <a:blip r:embed="rId3"/>
          <a:stretch/>
        </p:blipFill>
        <p:spPr>
          <a:xfrm>
            <a:off x="5357880" y="121428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ериапик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500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уш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и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рулент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узроковач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дара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етс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оптере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ацербациј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чк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т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ш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figure_9"/>
          <p:cNvPicPr/>
          <p:nvPr/>
        </p:nvPicPr>
        <p:blipFill>
          <a:blip r:embed="rId2"/>
          <a:stretch/>
        </p:blipFill>
        <p:spPr>
          <a:xfrm>
            <a:off x="5429160" y="1571760"/>
            <a:ext cx="3343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псцес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ц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4857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периос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кољ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ној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т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вар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кал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квест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р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ежан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гађ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мандибу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fossa canin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angulus mandibulae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abscess-bottom-chin"/>
          <p:cNvPicPr/>
          <p:nvPr/>
        </p:nvPicPr>
        <p:blipFill>
          <a:blip r:embed="rId2"/>
          <a:stretch/>
        </p:blipFill>
        <p:spPr>
          <a:xfrm>
            <a:off x="5214960" y="2143080"/>
            <a:ext cx="36432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одонтоге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5429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одонтог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нка 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с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г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лом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већ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зна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Mandibular+fractures"/>
          <p:cNvPicPr/>
          <p:nvPr/>
        </p:nvPicPr>
        <p:blipFill>
          <a:blip r:embed="rId2"/>
          <a:stretch/>
        </p:blipFill>
        <p:spPr>
          <a:xfrm>
            <a:off x="5857920" y="221472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ви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14200" y="1499760"/>
            <a:ext cx="54007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у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адеква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рурш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лађ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овља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то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ормит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Ipicturemandibularfracture"/>
          <p:cNvPicPr/>
          <p:nvPr/>
        </p:nvPicPr>
        <p:blipFill>
          <a:blip r:embed="rId2"/>
          <a:stretch/>
        </p:blipFill>
        <p:spPr>
          <a:xfrm>
            <a:off x="5857920" y="1643040"/>
            <a:ext cx="293040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ANd9GcQdbq5QLN6TXBab7O3-2DWBwN4gN5pEFQUAma9C_CwqYg-ZU9OSAbG6mg"/>
          <p:cNvPicPr/>
          <p:nvPr/>
        </p:nvPicPr>
        <p:blipFill>
          <a:blip r:embed="rId3"/>
          <a:stretch/>
        </p:blipFill>
        <p:spPr>
          <a:xfrm>
            <a:off x="5857920" y="4071960"/>
            <a:ext cx="2962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НТОГЕН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нтогене инфекције се могу поделити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. Апсцесе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. Флегмо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Osteosarcoma+of+the+upper+jaw%252C+presenting+as+a+hard+swelling"/>
          <p:cNvPicPr/>
          <p:nvPr/>
        </p:nvPicPr>
        <p:blipFill>
          <a:blip r:embed="rId2"/>
          <a:stretch/>
        </p:blipFill>
        <p:spPr>
          <a:xfrm>
            <a:off x="4000680" y="2714760"/>
            <a:ext cx="4657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јатроге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в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3880" y="1643040"/>
            <a:ext cx="785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трог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обиј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матолош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т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рочи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ас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е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бо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естез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врд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естетич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в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л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ЗРОЧНИ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ол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eptococcus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r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0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ептоко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чн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напредова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гатив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ктеријам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гатив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узрокова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шовит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и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ДРАСЛ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онтог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витализ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ика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донтитис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вор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ло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fistula2"/>
          <p:cNvPicPr/>
          <p:nvPr/>
        </p:nvPicPr>
        <p:blipFill>
          <a:blip r:embed="rId2"/>
          <a:stretch/>
        </p:blipFill>
        <p:spPr>
          <a:xfrm>
            <a:off x="5257800" y="1676520"/>
            <a:ext cx="2743200" cy="2060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parulisTitle"/>
          <p:cNvPicPr/>
          <p:nvPr/>
        </p:nvPicPr>
        <p:blipFill>
          <a:blip r:embed="rId3"/>
          <a:stretch/>
        </p:blipFill>
        <p:spPr>
          <a:xfrm>
            <a:off x="5105520" y="3962520"/>
            <a:ext cx="32004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из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corpus mandibul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angu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ram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mandibul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ваћ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ч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ом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large"/>
          <p:cNvPicPr/>
          <p:nvPr/>
        </p:nvPicPr>
        <p:blipFill>
          <a:blip r:embed="rId2"/>
          <a:stretch/>
        </p:blipFill>
        <p:spPr>
          <a:xfrm>
            <a:off x="5572080" y="3714840"/>
            <a:ext cx="2124000" cy="2523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ANd9GcR7YKgPMJJfCMC03NDhwHPJ1llkkN20U9DAGtxcF1wCMJr4HdoM"/>
          <p:cNvPicPr/>
          <p:nvPr/>
        </p:nvPicPr>
        <p:blipFill>
          <a:blip r:embed="rId3"/>
          <a:stretch/>
        </p:blipFill>
        <p:spPr>
          <a:xfrm>
            <a:off x="1285920" y="385776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арактерист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азвати до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шко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о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љи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кус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иоз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нт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аз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апик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кл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шко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би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те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чун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ш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gr3"/>
          <p:cNvPicPr/>
          <p:nvPr/>
        </p:nvPicPr>
        <p:blipFill>
          <a:blip r:embed="rId2"/>
          <a:stretch/>
        </p:blipFill>
        <p:spPr>
          <a:xfrm>
            <a:off x="609480" y="4343400"/>
            <a:ext cx="4343400" cy="2133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33"/>
          <p:cNvPicPr/>
          <p:nvPr/>
        </p:nvPicPr>
        <p:blipFill>
          <a:blip r:embed="rId3"/>
          <a:stretch/>
        </p:blipFill>
        <p:spPr>
          <a:xfrm>
            <a:off x="5410080" y="4419720"/>
            <a:ext cx="2743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472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ко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еп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он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мф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ћ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м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горш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иш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з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л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цит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з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димент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аксал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етит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ебљ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л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овљ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сту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сед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ж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по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инич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тра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а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нимцим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оч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ш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град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орган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ли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дељ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цинтиграф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врђи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лож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акти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ото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hylen-technetium-99 phosphon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актив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ди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ркул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бласт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м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кр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н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8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ас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г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ч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бл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дљи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енер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Osteonecrosis_of_the_jaw"/>
          <p:cNvPicPr/>
          <p:nvPr/>
        </p:nvPicPr>
        <p:blipFill>
          <a:blip r:embed="rId2"/>
          <a:stretch/>
        </p:blipFill>
        <p:spPr>
          <a:xfrm>
            <a:off x="1785960" y="4357800"/>
            <a:ext cx="3189240" cy="2244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ar10429_fm-2"/>
          <p:cNvPicPr/>
          <p:nvPr/>
        </p:nvPicPr>
        <p:blipFill>
          <a:blip r:embed="rId3"/>
          <a:stretch/>
        </p:blipFill>
        <p:spPr>
          <a:xfrm>
            <a:off x="5786280" y="4143240"/>
            <a:ext cx="2105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52149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он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бер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неуматизова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упљ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н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ра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иј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онги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 бити узрок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г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по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арат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JInterdiscipDentistry_2011_1_1_41_77205_f4"/>
          <p:cNvPicPr/>
          <p:nvPr/>
        </p:nvPicPr>
        <p:blipFill>
          <a:blip r:embed="rId2"/>
          <a:stretch/>
        </p:blipFill>
        <p:spPr>
          <a:xfrm>
            <a:off x="5638680" y="396252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f7c8363a14"/>
          <p:cNvPicPr/>
          <p:nvPr/>
        </p:nvPicPr>
        <p:blipFill>
          <a:blip r:embed="rId3"/>
          <a:stretch/>
        </p:blipFill>
        <p:spPr>
          <a:xfrm>
            <a:off x="5638680" y="1447920"/>
            <a:ext cx="2362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472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арактеристичн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вест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ниг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. infraorbitali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ч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цес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п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енератив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аб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клаћ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чврст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убит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н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б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изован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тра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егн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рв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л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фуз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већ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клаћ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етљи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кусиј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ко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мукоз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бсце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ст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стибула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врд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АПС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це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ној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вој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о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маркацио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ародонталн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ерикоронарн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60490"/>
          <p:cNvPicPr/>
          <p:nvPr/>
        </p:nvPicPr>
        <p:blipFill>
          <a:blip r:embed="rId2"/>
          <a:stretch/>
        </p:blipFill>
        <p:spPr>
          <a:xfrm>
            <a:off x="5181480" y="1828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нтибио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каментоз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каментоз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еч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дијуму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њ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ентер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ор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ис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њ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гр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динир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иц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г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њ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г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иц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о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кт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ам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3840" y="1428840"/>
            <a:ext cx="4496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центр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лањ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остављ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енаж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ра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ч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ље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т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мар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остављ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поруч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корти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л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љашњ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тек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рот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иретир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2528951_eplasty08e45_fig3"/>
          <p:cNvPicPr/>
          <p:nvPr/>
        </p:nvPicPr>
        <p:blipFill>
          <a:blip r:embed="rId2"/>
          <a:stretch/>
        </p:blipFill>
        <p:spPr>
          <a:xfrm>
            <a:off x="4929120" y="1857240"/>
            <a:ext cx="3762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кунда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с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гностик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довољ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-20170440" y="-23477400"/>
            <a:ext cx="2936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ože nastati kao sekundarna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8342280" y="-23477400"/>
            <a:ext cx="394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a forma nakon akutnog osteomijelitisa ili da o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-20547360" y="-5722920"/>
            <a:ext cx="456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-12351600" y="-5722920"/>
            <a:ext cx="1430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tka ima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-4392000" y="-5722920"/>
            <a:ext cx="5167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 tok. Akutni osteomijelitis je danas mnogo redji, dok je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28720080" y="-5722920"/>
            <a:ext cx="97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i mn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-20546640" y="12031920"/>
            <a:ext cx="26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-13619160" y="12031920"/>
            <a:ext cx="48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š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-12054960" y="12031920"/>
            <a:ext cx="296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́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. Usled primene antibiotika, u sl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8744040" y="12031920"/>
            <a:ext cx="353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jevima kada je akutni osteomijelitis kas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-20562120" y="29786400"/>
            <a:ext cx="6110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ijagnostikovan, ili kada se daju nedovoljne doze antibiotika, prelazi u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26332920" y="29763360"/>
            <a:ext cx="951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u form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8" descr="osteomyelitis1355190511294"/>
          <p:cNvPicPr/>
          <p:nvPr/>
        </p:nvPicPr>
        <p:blipFill>
          <a:blip r:embed="rId2"/>
          <a:stretch/>
        </p:blipFill>
        <p:spPr>
          <a:xfrm>
            <a:off x="1643040" y="4286160"/>
            <a:ext cx="5551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85480" y="1285560"/>
            <a:ext cx="8643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тиј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хваће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д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ебљ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клаће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еди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вид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еч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љ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лтип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сту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ов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ст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Picture6"/>
          <p:cNvPicPr/>
          <p:nvPr/>
        </p:nvPicPr>
        <p:blipFill>
          <a:blip r:embed="rId2"/>
          <a:stretch/>
        </p:blipFill>
        <p:spPr>
          <a:xfrm>
            <a:off x="838080" y="4419720"/>
            <a:ext cx="3200400" cy="2106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1048885-1092133-1909"/>
          <p:cNvPicPr/>
          <p:nvPr/>
        </p:nvPicPr>
        <p:blipFill>
          <a:blip r:embed="rId3"/>
          <a:stretch/>
        </p:blipFill>
        <p:spPr>
          <a:xfrm>
            <a:off x="4800600" y="4419720"/>
            <a:ext cx="3200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7929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рактеристи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вестрациј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вест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нифест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е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енч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о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вет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вој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олин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ркумскрип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б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лањ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ир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вест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ретаж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ог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нулацио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енаж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ГНОЈ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лерозирајућ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оље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терату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c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ира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и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ГНОЈ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400" y="1500120"/>
            <a:ext cx="826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ћ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асход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ог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к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ирају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ис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доосе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лифератив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т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узроко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рулент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ктеријам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ЦИРКУМСКРИП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КЛЕРОЗИРАЈУЋ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68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ркумскрипт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ира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ст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бјектив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гоб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ч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дон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мбр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чуван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ушкаст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ек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дон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мбр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познат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ће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фуз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ебљ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с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ФУЗ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КЛЕРОЗИРАЈУЋ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15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лађ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кључ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л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гул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илекцио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ацерб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дељ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ацерб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е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ражен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лађ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ст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овљ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иметр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fig1"/>
          <p:cNvPicPr/>
          <p:nvPr/>
        </p:nvPicPr>
        <p:blipFill>
          <a:blip r:embed="rId2"/>
          <a:stretch/>
        </p:blipFill>
        <p:spPr>
          <a:xfrm>
            <a:off x="4857840" y="4357800"/>
            <a:ext cx="2590560" cy="2222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kyste-maxillaires"/>
          <p:cNvPicPr/>
          <p:nvPr/>
        </p:nvPicPr>
        <p:blipFill>
          <a:blip r:embed="rId3"/>
          <a:stretch/>
        </p:blipFill>
        <p:spPr>
          <a:xfrm>
            <a:off x="1500120" y="4357800"/>
            <a:ext cx="26193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ФУЗ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КЛЕРОЗИРАЈУЋ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дију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лађ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кре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ст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аз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а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ози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вљ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цинтиграфиј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лањ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итич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ариш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корт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кл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ок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езбе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скулариз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рокомор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ЛЕГМОН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легмона је један од облика акутног дифузног, пурулентно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запаљењ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е захвата све слојеве ткива и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орг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без јасно одређених граница између здравог и упаљеног ткива, по чему се разликује од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це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оји има јас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гран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ако се класична флегмона сматра инфекцијом без формирања апсцеса или гнојења и без улцерација, у клиничкој пракси, подела између флегмоне и апсцеса понекад није сасвим јасн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GARRE</a:t>
            </a:r>
            <a:r>
              <a:rPr b="1" i="1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sr-CS" sz="1800" spc="-1" strike="noStrike">
                <a:solidFill>
                  <a:srgbClr val="ffffff"/>
                </a:solidFill>
                <a:latin typeface="Arial"/>
              </a:rPr>
              <a:t>ОВ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паљењск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ериос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ног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специфич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имулусе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варање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зрел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бпериостал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ртикал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о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rre</a:t>
            </a: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-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гној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фуз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паљењс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ериостал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дебља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бпериостал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иперплази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клеротич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хваћен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ки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узрокова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значе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рулент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афилококе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клон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ариште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ДИО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071720"/>
            <a:ext cx="8929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г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с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шће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г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мор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е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умир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ц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д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пил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уфицијен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рот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ин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ифест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и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лож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цирају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е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Osteonecrosis%20jaw"/>
          <p:cNvPicPr/>
          <p:nvPr/>
        </p:nvPicPr>
        <p:blipFill>
          <a:blip r:embed="rId2"/>
          <a:stretch/>
        </p:blipFill>
        <p:spPr>
          <a:xfrm>
            <a:off x="2214720" y="4500720"/>
            <a:ext cx="53053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ДИО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6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важ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узе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илактич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радионекро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рх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лош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стран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ангреноз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донта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и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-14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хо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е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ш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м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динир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биоти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ок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ктр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3707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ИН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Л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0000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ас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узе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иков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а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оре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могућ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чи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ча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рињ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сигур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ечав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з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страњи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fig07-radio-of-fract"/>
          <p:cNvPicPr/>
          <p:nvPr/>
        </p:nvPicPr>
        <p:blipFill>
          <a:blip r:embed="rId2"/>
          <a:stretch/>
        </p:blipFill>
        <p:spPr>
          <a:xfrm>
            <a:off x="4857840" y="4857840"/>
            <a:ext cx="2741400" cy="1780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ANd9GcTb85_jrzYRslTq8TLj3ypvv0iiMIvAOSI5P32OHp5aEgdfF1NX"/>
          <p:cNvPicPr/>
          <p:nvPr/>
        </p:nvPicPr>
        <p:blipFill>
          <a:blip r:embed="rId3"/>
          <a:stretch/>
        </p:blipFill>
        <p:spPr>
          <a:xfrm>
            <a:off x="1571760" y="4857840"/>
            <a:ext cx="29289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2560" y="1071360"/>
            <a:ext cx="87152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ојч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чет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фуз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озни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ш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ш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тет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би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им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а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немир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могл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изо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мус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та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иг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ређ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ANd9GcQuM2eEHQXf3nIJ91VbPT-m3yxq2fO-cDIGlKQHWLQfVQsId-Pp"/>
          <p:cNvPicPr/>
          <p:nvPr/>
        </p:nvPicPr>
        <p:blipFill>
          <a:blip r:embed="rId2"/>
          <a:stretch/>
        </p:blipFill>
        <p:spPr>
          <a:xfrm>
            <a:off x="1928880" y="4626000"/>
            <a:ext cx="2274840" cy="1994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flemingk"/>
          <p:cNvPicPr/>
          <p:nvPr/>
        </p:nvPicPr>
        <p:blipFill>
          <a:blip r:embed="rId3"/>
          <a:stretch/>
        </p:blipFill>
        <p:spPr>
          <a:xfrm>
            <a:off x="4857840" y="4572000"/>
            <a:ext cx="20574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ЕНТОГЕ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ШТАНИХ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КИВА</a:t>
            </a:r>
            <a:br>
              <a:rPr sz="28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спе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г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сед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ив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њиш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чи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мптомат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огућа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о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т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стопатоло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раж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ер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сел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и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ар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њиш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спе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ц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7120" y="1285560"/>
            <a:ext cx="8501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ухваћ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рс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станц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рамедулар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ет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ркул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гр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ж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даљ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ној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лкмано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аверзо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утри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д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њиш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териш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пт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омбо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ркулац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реверзиби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ци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упљ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нгиоз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з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уње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ноја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и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ркулац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уми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вр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стан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п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ер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укоци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кла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ш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град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рот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вр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стан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бде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љ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в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улацио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кла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ротич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уна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грађ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р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тори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ва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востворе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броз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ложењ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воствор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фер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central_ossifying_fibroma-141C8C93BCF5550340A"/>
          <p:cNvPicPr/>
          <p:nvPr/>
        </p:nvPicPr>
        <p:blipFill>
          <a:blip r:embed="rId2"/>
          <a:stretch/>
        </p:blipFill>
        <p:spPr>
          <a:xfrm>
            <a:off x="2000160" y="4929120"/>
            <a:ext cx="2357640" cy="15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ContempClinDent_2012_3_5_103_95117_f8"/>
          <p:cNvPicPr/>
          <p:nvPr/>
        </p:nvPicPr>
        <p:blipFill>
          <a:blip r:embed="rId3"/>
          <a:stretch/>
        </p:blipFill>
        <p:spPr>
          <a:xfrm>
            <a:off x="4786200" y="4929120"/>
            <a:ext cx="24289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8400" y="13568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оствор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иј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ед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ч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њ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вара секвест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град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органс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м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в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а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п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б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ак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и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нифес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стал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варањ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руленц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узрокова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из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д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брамб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аг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лабљ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брамб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ект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пен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грож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гиопатиј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бетич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1:21:47Z</dcterms:modified>
  <cp:revision>748</cp:revision>
  <dc:subject/>
  <dc:title>Diapositiva 1</dc:title>
</cp:coreProperties>
</file>